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4BC-BE17-4EAF-BD4B-4137304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DF8-1744-4039-B2B1-79880DA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DE8-B28E-4702-8218-2E0FF8E5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453-E3A5-4261-BA02-DA331126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B12-59D7-466D-82BD-6483C2E3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EAF-9800-4A4D-9DA1-63907ADF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EC2-6175-4098-8E1E-8236B448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304-2CC3-447C-8A5C-9F09480B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B4D-61F3-4D55-946F-AEEC734B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220-FE77-4B56-A86D-90A144B2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828-C48E-4C4C-A264-A6C3EC23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8B8-1C3F-4BA6-9AA1-278B4D9E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55DE-6462-4804-B422-C5328ABDD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Applications, 2011 - 20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Unit 3 Summ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Applications  Unit 3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Applications Uni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240" y="1773360"/>
            <a:ext cx="75535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OS 1: online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58680" y="1600200"/>
            <a:ext cx="722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AOS 2: organisations and data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46080" y="1600200"/>
            <a:ext cx="725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A Uni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76197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blem Solving Methodology, (ADD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308240" y="1600200"/>
            <a:ext cx="652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23:43:47Z</dcterms:created>
  <dc:creator>01421606</dc:creator>
  <dc:description/>
  <dc:language>en-US</dc:language>
  <cp:lastModifiedBy>01421606</cp:lastModifiedBy>
  <dcterms:modified xsi:type="dcterms:W3CDTF">2010-11-21T00:09:30Z</dcterms:modified>
  <cp:revision>4</cp:revision>
  <dc:subject/>
  <dc:title>Slide 1</dc:title>
</cp:coreProperties>
</file>